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B37E-C58D-4096-8F57-E60F06B54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36D2-A6CF-4A6C-BFFA-BCFC4CD8FCD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5ED4-80E0-4249-93D7-A49734772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FA23-E137-4C25-BC81-2191F6164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88C5-2454-427D-BBE1-470D96BC0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B863-1B03-418A-976F-F5D5AA6B0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C468-CA36-4110-B23F-74EF049B8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DDC2E-844B-4563-93A8-58412F61E5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73943-331C-4FC4-9352-66652F7B85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B124D-C9CA-4B6D-A301-A49DFEB174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EA96-78C4-4E57-9052-42FCB8ADC1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119D-4808-4BF6-9002-47734222E0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BC08-E1BC-4B21-AAE1-3166BF3D35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F116-C1AA-4524-81D1-2F31795A03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7D9E5-CB2A-4DA2-A7D7-9FCC000EAA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1C57-0772-486C-931D-561C2B9DB0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4E46-65BC-4D4D-BFE6-6B49628E35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1753E-C079-40F8-BA82-516926147C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5279-56EF-4A57-B179-F8E3BBB5AB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8F001-6DC6-434F-B982-82835A7901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A59B-3AEF-4859-98A3-ABC11A5676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0FCA-BAF7-43EA-AB0F-53B39F3C1B9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4970-58AD-4503-9C34-475B0B9BB9F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0F53-1DFF-4F75-ADAA-B6C79D9D3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36DA-86FC-4197-9C44-7EC62D406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C364-E706-4FD7-A240-E7ECB408A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7DCD-C374-4945-9101-AB689DABB6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F7DC-50C3-4B39-A1FC-C39A074B57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92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tional Stakeholders’ Consultation Meeting on Livestock for Africa RISING Phas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1835280" y="4653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uidelines for Group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198864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of priority research for development livestock issues for Africa RISING Phase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to four livestock technologies for sc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actors to be involved in the implementation of livestock related activities in Phase 2 are identified and their potential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logical framework with activities based on Phase 2 propos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Expected Outputs from Group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will be 3 groups of about 8 persons per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1: Leader: Dr Emmanuel Adu; Rapporteur: Dr Addah Wese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2: Leader: Prof Emmanuel Osafo; Rapporteur: Mr Sadat Salif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3: Leader: Dr Victoria Attoh-Kotoku; Rapporteur: Mr Solomon Kon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ency with the Africa RISING project objectives for Phas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tific sound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sibility (in terms of design, time and budg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ffing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lability and potential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requ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ing crop-livestock inte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age with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2184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riteria for identification of priority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score each livestock issue or thematic identified using the six criteria above on the scale of 0 (None/Poor) to 10 (Very High/Excell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231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coring of different proposed livestock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3357720"/>
          <a:ext cx="8723160" cy="2371680"/>
        </p:xfrm>
        <a:graphic>
          <a:graphicData uri="http://schemas.openxmlformats.org/drawingml/2006/table">
            <a:tbl>
              <a:tblPr/>
              <a:tblGrid>
                <a:gridCol w="720720"/>
                <a:gridCol w="1079280"/>
                <a:gridCol w="936720"/>
                <a:gridCol w="1008000"/>
                <a:gridCol w="792360"/>
                <a:gridCol w="1008000"/>
                <a:gridCol w="1152360"/>
                <a:gridCol w="1079640"/>
                <a:gridCol w="946080"/>
              </a:tblGrid>
              <a:tr h="36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ing based on selected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st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ientific qu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a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ing capa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al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sh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L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an nutr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Key points from Phase 2 Proposal on Live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ic research will complete the loose ends of research on the Sustainable Intensification innovations in phase I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aden and strengthen partnerships particularly with the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 adequately research outputs through publication of technical and non-technic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a livestock research strategy to increase visibility of livestock-related activities especially those about small ruminants and pi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Key points from Phase 2 Proposal on Live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ic research will complete the loose ends of research on the Sustainable Intensification innovations in phase I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more linkages between crop-livestock diversification and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k opportunities to link adaptive research with agricultural development projects to add value/complement their activities, and to scale-out tested and validated SI innovations identified from phase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w Research areas in Phas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027160"/>
            <a:ext cx="83487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ase II will also explore new research areas and utilization of tools emerging from phase I, identifi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crop-livestock integration involving different livestock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post-harvest management and value addition, and demonstration of proven technolog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small-scale mechanization (labor-sav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 more attention to climate-smart-agriculture pack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re the potential of dairy goats and milk processing for improved nutrition and income gener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920" y="1218960"/>
            <a:ext cx="8642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ogframe– Livestock relate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1785960"/>
          <a:ext cx="8497800" cy="4738680"/>
        </p:xfrm>
        <a:graphic>
          <a:graphicData uri="http://schemas.openxmlformats.org/drawingml/2006/table">
            <a:tbl>
              <a:tblPr/>
              <a:tblGrid>
                <a:gridCol w="2174760"/>
                <a:gridCol w="2239920"/>
                <a:gridCol w="2163960"/>
                <a:gridCol w="1919160"/>
              </a:tblGrid>
              <a:tr h="10746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ct Outcome 1: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Productivity and resilience of smallholder crop-livestock systems in the Guinea and Sudan savanna zones of West Africa increas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25720">
                <a:tc gridSpan="4"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UTPUT 1.1 Options for more intensive, diversified, productive, and resilient crop-livestock systems valid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LY VERIFIABLE INDIC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9036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ANS/SOURCE OF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ORTANT ASSUMP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60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1: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aluate and disseminate climate-resilient cropping and livestock systems to reduce ris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marL="9036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33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2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st and disseminate a combination of improved breeds, housing, feeding, health and breeding management practices to intensify livestock (sheep, goat, pig, and poultry) production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3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roduce and evaluate dairy breeds of goats and sheep for milk produ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AA</cp:lastModifiedBy>
  <cp:lastPrinted>2011-10-06T11:45:23Z</cp:lastPrinted>
  <dcterms:modified xsi:type="dcterms:W3CDTF">2016-11-14T17:30:58Z</dcterms:modified>
  <cp:revision>59</cp:revision>
  <dc:subject/>
  <dc:title>Slide 1</dc:title>
</cp:coreProperties>
</file>